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4579938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3DB4-0B33-4967-8FE3-0447DE08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8C53-DF3D-4820-B03E-FD2B2C2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B917-5A34-40C7-BB83-E6F8798F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74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644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88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74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644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0DD0-20A5-471A-AA9A-D6AF642A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63CC-D5A2-45BF-8C0D-757225CF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3842-A7B5-4590-87C0-D54B4DA3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A403-6C1E-4BB7-910C-4601F58E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50E-E1E2-4EB2-B4E7-DDD93EB0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EF75-40FE-48B9-9727-24300BF5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6840"/>
            <a:ext cx="899460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0B8B-4BA3-4322-87B8-D25E5E49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2C9B-1300-4C99-B340-27E9579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A297-13D3-45B2-A86F-84C25758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EFC5-E64C-4CC6-87B3-1210F65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1FF5-F632-47A8-8861-AE0671BA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B7DB-AFCD-4152-BA3E-EADC05F0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45B7-11A9-4C0C-8D4B-959ECBCD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74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644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88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74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644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ACA-55F6-4228-8413-8096BAD8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6FA6-1B03-4F12-A451-C2F3F421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403F-BD17-4B56-9EBB-19980F20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9800-CB1A-4EAA-AA75-9F63D2E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6840"/>
            <a:ext cx="899460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E892-214C-41A4-BE19-882A5CD3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16A3-AEA6-4046-B6F1-520CA130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5D6F-571E-4C74-9133-9BD38EE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BB78-2283-4E50-9B5D-953C733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72052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84052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96AB-8496-4C52-A4E4-F63AF72AD758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26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26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94600" cy="307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28720" indent="-24768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4768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154240" cy="476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712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712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94600" cy="307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28720" indent="-24768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4768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300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D91-C78D-4C73-9EBF-68C902DE3FEB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20560" y="1828800"/>
            <a:ext cx="6519960" cy="2209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estad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20920" y="4267080"/>
            <a:ext cx="6485040" cy="890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099200" y="6248520"/>
            <a:ext cx="231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A63DDF5-72AF-4AAE-9887-88D34F8B507F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9309835-A1AC-4CD2-991F-FA8E797B1AA7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CuadroTexto"/>
          <p:cNvSpPr/>
          <p:nvPr/>
        </p:nvSpPr>
        <p:spPr>
          <a:xfrm>
            <a:off x="3452760" y="714240"/>
            <a:ext cx="1714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8 Imagen" descr="ESTADISTICA-BIO.jpg"/>
          <p:cNvPicPr/>
          <p:nvPr/>
        </p:nvPicPr>
        <p:blipFill>
          <a:blip r:embed="rId1"/>
          <a:stretch/>
        </p:blipFill>
        <p:spPr>
          <a:xfrm>
            <a:off x="309600" y="428760"/>
            <a:ext cx="93186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93CCEB2-8EBB-4032-8A9B-1105113C274D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4 Imagen" descr="VARIABLES- BIO.jpg"/>
          <p:cNvPicPr/>
          <p:nvPr/>
        </p:nvPicPr>
        <p:blipFill>
          <a:blip r:embed="rId1"/>
          <a:stretch/>
        </p:blipFill>
        <p:spPr>
          <a:xfrm>
            <a:off x="309600" y="428760"/>
            <a:ext cx="942984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333F709-35DB-4663-8A67-9BA140B00084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Elipse"/>
          <p:cNvSpPr/>
          <p:nvPr/>
        </p:nvSpPr>
        <p:spPr>
          <a:xfrm>
            <a:off x="166680" y="1000080"/>
            <a:ext cx="2143080" cy="378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Elipse"/>
          <p:cNvSpPr/>
          <p:nvPr/>
        </p:nvSpPr>
        <p:spPr>
          <a:xfrm>
            <a:off x="309600" y="857160"/>
            <a:ext cx="2714760" cy="34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6 Imagen" descr="PARAMETROS- BIO.jpg"/>
          <p:cNvPicPr/>
          <p:nvPr/>
        </p:nvPicPr>
        <p:blipFill>
          <a:blip r:embed="rId1"/>
          <a:stretch/>
        </p:blipFill>
        <p:spPr>
          <a:xfrm>
            <a:off x="166680" y="566640"/>
            <a:ext cx="96440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CCD2DF3-9874-4FB1-8C3C-34921D0CB501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 Imagen" descr="MEDIDAS DE RESUMEN- BIO 1.jpg"/>
          <p:cNvPicPr/>
          <p:nvPr/>
        </p:nvPicPr>
        <p:blipFill>
          <a:blip r:embed="rId1"/>
          <a:stretch/>
        </p:blipFill>
        <p:spPr>
          <a:xfrm>
            <a:off x="95400" y="428760"/>
            <a:ext cx="95724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80D77C5-D7C3-44EA-A91F-2C0DFC24FEC8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4 Imagen" descr="MEDIDAS DE RESUMEN- BIO 2.jpg"/>
          <p:cNvPicPr/>
          <p:nvPr/>
        </p:nvPicPr>
        <p:blipFill>
          <a:blip r:embed="rId1"/>
          <a:stretch/>
        </p:blipFill>
        <p:spPr>
          <a:xfrm>
            <a:off x="95400" y="428760"/>
            <a:ext cx="968040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A5CD758-1EA4-44CF-A80C-2F4C92A7E924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4 Imagen" descr="DIAGRAMA DE CAJAS.jpg"/>
          <p:cNvPicPr/>
          <p:nvPr/>
        </p:nvPicPr>
        <p:blipFill>
          <a:blip r:embed="rId1"/>
          <a:stretch/>
        </p:blipFill>
        <p:spPr>
          <a:xfrm>
            <a:off x="95400" y="428760"/>
            <a:ext cx="9666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ADD84E9-EAC3-47AF-AD7C-D453AD7751BB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Tukey2"/>
          <p:cNvPicPr/>
          <p:nvPr/>
        </p:nvPicPr>
        <p:blipFill>
          <a:blip r:embed="rId1"/>
          <a:stretch/>
        </p:blipFill>
        <p:spPr>
          <a:xfrm>
            <a:off x="237960" y="214200"/>
            <a:ext cx="9501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55D0EEA-51CE-4DD6-9FDF-5C6972E97EEA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37960" y="1571760"/>
            <a:ext cx="3413160" cy="428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405240" y="1428840"/>
            <a:ext cx="64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7:28:59Z</dcterms:created>
  <dc:creator>Fco. Javier Barón López</dc:creator>
  <dc:description/>
  <cp:keywords>Bioestadística estadística descriptiva</cp:keywords>
  <dc:language>en-US</dc:language>
  <cp:lastModifiedBy>juan</cp:lastModifiedBy>
  <dcterms:modified xsi:type="dcterms:W3CDTF">2010-09-09T14:12:45Z</dcterms:modified>
  <cp:revision>141</cp:revision>
  <dc:subject/>
  <dc:title>Tema 2: Estadísticos</dc:title>
</cp:coreProperties>
</file>